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1D5-27D1-47A3-AA61-AFA39F22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86A-8812-47DB-945F-44FCAFCB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969-A384-4CDE-885D-7974464D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3BC-0FF0-48EA-8D4D-7CF7D2CB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DC7-33E6-4AAE-97FE-4C6FA7C3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0BD-8C7C-4B35-8220-50784086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54B-C834-43A2-AB56-3B874FEB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3BB-CB38-4D33-8550-576C525A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DAB-5159-4461-86C1-C6174FF5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BBF-0FDF-4DF6-82AE-44C3C1B0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16D-93C2-4100-B4F6-D88BC63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C47-454D-4C25-AEEB-1B75618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B78A-012C-4635-B03D-9EF26B8C9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4560840" cy="3405240"/>
            <a:chOff x="0" y="0"/>
            <a:chExt cx="4560840" cy="340524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4560840" cy="340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6800" y="196920"/>
              <a:ext cx="3605040" cy="2681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68320" y="1541520"/>
              <a:ext cx="149400" cy="38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33360" y="1541520"/>
              <a:ext cx="139680" cy="212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87600" y="1541520"/>
              <a:ext cx="150840" cy="2127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52640" y="1541520"/>
              <a:ext cx="139680" cy="3142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08320" y="1541520"/>
              <a:ext cx="149040" cy="921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71920" y="1303200"/>
              <a:ext cx="149040" cy="23832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36960" y="1136520"/>
              <a:ext cx="139680" cy="40500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90840" y="1127160"/>
              <a:ext cx="150840" cy="414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55880" y="1127160"/>
              <a:ext cx="139680" cy="414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1560" y="1127160"/>
              <a:ext cx="149400" cy="4143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8640" y="2878200"/>
              <a:ext cx="7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8640" y="261000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640" y="234324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8640" y="207648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8640" y="180972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8640" y="154152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8640" y="126540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8640" y="99864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8640" y="73188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8640" y="46512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8640" y="19692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6800" y="1541520"/>
              <a:ext cx="3605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6680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13040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48608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849320" y="2838240"/>
              <a:ext cx="18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205000" y="2838240"/>
              <a:ext cx="18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56860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933640" y="2838240"/>
              <a:ext cx="180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28932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65292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0860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42840" y="1579680"/>
              <a:ext cx="36540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08240" y="1790640"/>
              <a:ext cx="36324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71480" y="2011320"/>
              <a:ext cx="35568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27160" y="2324160"/>
              <a:ext cx="36504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392200" y="2185920"/>
              <a:ext cx="35424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746440" y="1790640"/>
              <a:ext cx="36504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111480" y="1375920"/>
              <a:ext cx="363600" cy="4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475080" y="961560"/>
              <a:ext cx="355680" cy="4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830760" y="557280"/>
              <a:ext cx="36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42840" y="1541520"/>
              <a:ext cx="365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08240" y="1541520"/>
              <a:ext cx="36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1480" y="1541520"/>
              <a:ext cx="355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027160" y="1247760"/>
              <a:ext cx="365040" cy="2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392200" y="1118880"/>
              <a:ext cx="3542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746440" y="1109160"/>
              <a:ext cx="36504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1480" y="1109520"/>
              <a:ext cx="363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75080" y="1109520"/>
              <a:ext cx="355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30760" y="1109520"/>
              <a:ext cx="36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6480" y="1504800"/>
              <a:ext cx="74520" cy="74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70080" y="1504800"/>
              <a:ext cx="74520" cy="74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35120" y="1504800"/>
              <a:ext cx="74520" cy="74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90800" y="1504800"/>
              <a:ext cx="74520" cy="74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54400" y="1211400"/>
              <a:ext cx="74520" cy="72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09720" y="1081080"/>
              <a:ext cx="74880" cy="74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73320" y="1073160"/>
              <a:ext cx="7452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38360" y="1073160"/>
              <a:ext cx="7488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600" y="1073160"/>
              <a:ext cx="7596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57640" y="1073160"/>
              <a:ext cx="7452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5720" y="28036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720" y="25369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5720" y="22701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5720" y="2001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5720" y="17352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4200" y="1468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2080" y="1192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2080" y="925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2080" y="6573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080" y="390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080" y="123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548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7908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4412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9836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340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1908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268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772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1600" y="2949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28840" y="2949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6404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-618480" y="1420920"/>
              <a:ext cx="178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e Cash Flow, USD mill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06800" y="2343240"/>
              <a:ext cx="261720" cy="730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5520" y="2297160"/>
              <a:ext cx="89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 Cash 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06800" y="2546280"/>
              <a:ext cx="26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96600" y="2462040"/>
              <a:ext cx="91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mulative FC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06800" y="2720880"/>
              <a:ext cx="26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0400" y="2684520"/>
              <a:ext cx="7452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94800" y="263844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370400" y="2838240"/>
              <a:ext cx="144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5:37:08Z</dcterms:created>
  <dc:creator>Frank</dc:creator>
  <dc:description/>
  <dc:language>en-US</dc:language>
  <cp:lastModifiedBy>frank crundwell</cp:lastModifiedBy>
  <dcterms:modified xsi:type="dcterms:W3CDTF">2007-08-16T16:32:33Z</dcterms:modified>
  <cp:revision>9</cp:revision>
  <dc:subject/>
  <dc:title>PowerPoint Presentation</dc:title>
</cp:coreProperties>
</file>